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D244-8EC3-4235-B2CD-0C814899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ED8-BC73-45E3-9925-C7AA9383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7C201-801C-43B4-B577-FF831F8B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F1DF0-DFE4-4C82-83BE-DC3EE03F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EB371-2475-4ABB-B152-BD41B87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D9A90-858A-4AB2-A46B-D363851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A3694-9F81-47D6-81C9-806CECF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F044B-6ECE-4F00-BDBE-4F69E35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841A1-7D33-4F5D-AA06-ECD6011E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7F9F6-8EEF-4310-837B-9A9B67A2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55D63-925B-4E23-86FC-067EE362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B90EC-8F6C-4CBB-828E-30F9FA11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9C2-DFD6-46B6-B361-526B8E5B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94031-9875-468E-B137-D2CD1C22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FAF8C-2A1A-446F-8AB5-AEE18CE6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5657C-F252-4728-8894-DA37810D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0673E-F20A-4B0E-9400-E223E187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98F5B-9F79-47D2-8265-F27CB44E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983FD-7DE3-4A7B-8EFB-F58036F7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68998-32D2-433B-A484-32BA55D3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78EC3-B378-4CD2-B431-75556784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EC321-A6C4-457F-81BE-48B5034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02BC-79B2-49BB-8696-EBC60187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EA6-C5CE-4D08-9045-8FAB2605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81069-A706-40B7-B8D8-EC3FDD12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D1FD6-C994-4CDE-AC8D-591A996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B98C7-F4BB-464F-A6A2-4C3E1D8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C6E27-4297-46D0-A10A-80F8CA3B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64CA8-6D7A-466E-9013-0F3F84D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744CD-DDD9-48F2-B90E-DBE52A05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DBD15-DBA7-42D7-8887-C5D0EC57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433C3-8E23-43AF-9184-2A0B0A7B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69F9E-75D9-4F18-8E48-525E35CC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5F902-E275-4BDC-8984-211A392E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016D-65F9-4FE5-A6BA-8F64D429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6D7EE-31E7-4AEA-A8E0-1EC1301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5E093-0C14-4379-A56F-47C38EC4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ECA67-157A-452E-B81B-D4FA78DD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AAA5E-F5EB-4990-B877-F378D87F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C6129-0C43-495E-8C9D-03B954F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A0E4F-CE8A-496F-968E-232507B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397A2-4ABA-4E53-8008-2BFCDF25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2959C-6C36-4D8E-AEE5-836BE2E0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00E0A-9D8C-4286-A457-BECDAB7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FD0C9-EEEE-484C-BBE1-17AD231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1D68-F8D1-44D8-8829-C303D15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DCE51-0947-424F-B25D-982A82D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A7C40-D9FA-41BB-9B84-AF7F9CE0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53D33-FF93-4544-BC96-8C02A9C9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6E665-7291-4A2A-A509-D1D80B04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25367-D6FB-4C7C-B43B-C70A11A3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639C5-F1E3-4D31-8380-5B1952A5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D0AAD-4923-4194-B60B-28F46EAF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B2653-193A-4B5F-AB16-9BDD39C4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125B1-C52C-44DD-A61F-3036EA22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8D186-FD45-4013-BF24-C6BE39AD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A701-1A7A-47FF-91BD-3A602F31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DD44D-9D27-47B8-A005-9FBE9431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6C52C4-B831-4290-AFAB-7623865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75545-7790-4114-B83C-CAEE5FC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A43E6-0C27-4C65-B390-87E4751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B12E5-092F-493C-8A60-ADBACEC3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518016-02FF-497A-94D9-A41E8B81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43D28-75F0-4A65-B5DF-7980A96E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7A786-C9CA-4250-B980-84558FA0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767A4-55AA-46AC-82E2-18C40271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E16DA-4BFB-49F2-B6AF-67495FDF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6F0E-56C0-4E28-8923-0B5AC7E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9977D3-1202-4049-B5EC-74BFF3DE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EA3E18-440F-46D0-876A-71FE9C5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1BED5-349E-4F75-A79F-D596D57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622D2C-05D9-4FA1-8E8D-E4B55E1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1A8B8-FEB4-4E95-AF74-DE3A52C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87D30C-9E10-456F-95D9-10A44B7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4CA02-1EFE-4266-A6B1-97E27C8D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CDBB2A-07E4-4A99-BA8E-51867778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02C8C-8284-4E6C-9B2B-5EA0F989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9F988-7F56-4AB0-8710-658FF6A9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236C-35D4-4713-AB62-65A5CEF8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0FD79C-3A0D-4ED6-927D-C5C7757F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08032-D014-4AC2-921F-A7BD74DC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04C06E-3B24-4997-8BA1-437BBF83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6E916-A9BA-4062-B5AC-6EC3627C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C50E4F-B9DD-4AC8-8AD5-FBAF82A8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3881E-A0B3-43F8-9785-853DD2CD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EE68C-9C6D-43DD-B345-89088AC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A1B5AA-799E-4D9F-9F24-9592BBE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7F3F53-0C3B-4CE7-9667-233A2642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2EE871-84F7-4F6A-BC1D-34C9D2C5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BC7-9E2B-4229-A6A5-74A881F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C4210-8DD0-4F6E-9652-7226BD6F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C60E9-AB4A-4395-A1CA-F6D890F7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53A0B-46F1-40A1-A9ED-DBD279A5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7A69D-6130-4B79-BF41-E1FE6CE5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E1254-16EB-447F-A026-32D048A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DA5D8-CF0E-475A-9C65-2802902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E26D1-FB1C-4992-8A1C-430CC6DE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586AFF-E970-49BD-9E4A-3BAB3E74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F77AE-C825-4D20-BB38-AE609A2D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C2117-818D-4ED2-B873-52F79BF3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9BAE-8508-49F0-A111-6BCB9A7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8FDD5-168E-4CB9-9AC2-74263DC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E055DA-21AA-4DFB-892B-C40C4F29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F9D5A-7E80-4CB1-AABB-F352F428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FF7A6-931F-4593-A005-9318FF00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613ABA-C457-4603-9B40-EB543C9E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95E0A-6F95-4A63-BE8B-77464491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9D1B5-FD7F-41BD-8A3E-DD9BCDE4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CF1B9-7210-487F-AF67-42E0A1EE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58241-0C16-4F9C-99B6-465C96CC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CFE7C-D730-40DA-8E4D-5635FB9E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DD0-0B10-44FD-A97B-9B6AB6D4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19C1-63E9-4B01-9E71-9D683D5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81FF7-B207-474F-906B-E8CF7D56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B3804E-86D4-479F-97DB-B22D71F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78C32-19AC-4E49-8E44-9F0FBD3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E9CE5-E84D-4532-966C-51CC2063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CB6106-61DC-4395-A30F-ED0590FD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9F8A5-6ECA-4F5A-8804-77CD762E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598DD-3D7C-4E02-B33C-409A9768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BEF15-ABC5-451D-A8E8-964BB4A9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E5015-9AF1-40B2-9876-62C156A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E577B7-7F85-4606-8D7D-212C0529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126-9E76-46B5-B90A-4CEE9FA2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4FC78-0A82-426C-8EF9-900B7968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7DD7B-7916-459B-95E5-2E9082A2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FBA229-94A7-4471-812E-9762B3A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8CD9A-34A7-462E-B92E-B7DE81B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5DF510-6523-4C7F-9510-EFA5739C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5C5743-3344-4E69-B672-24C59DEF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6AC2E-A6E1-4DDD-B7C8-6101CBF3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84CB8-D597-4980-982E-F6A9EF32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F86F2-F3E6-4DAF-B51F-250CAA1A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B9EDE-6DFE-450B-A133-402AA158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29E7-D9D2-49ED-BF65-334BFCCE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C5487-DA52-4085-AC55-6B9F43A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F0BCB-E8B4-430B-8706-C653D0A8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037A6-D945-4AA8-AA94-E5782F09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DD160-438D-4861-9AEE-17F8FB1E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3DB792-BD0F-4105-8D3D-56E44F0C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733AD-2495-45A2-A3EE-B750477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2D1C9-C464-432B-8970-70906169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F0704-7C69-4C27-8F70-95020517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FEE167-5B6E-4ADC-8183-1951CA28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CA583-F230-4064-AFFC-5B603618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B9D1-1538-4E31-8B50-E4E93E84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D1969-57BC-4B81-83B4-6345D97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2A534-6E44-4F09-BF06-15024866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B168D-E1EA-4A78-806D-AE966D59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DADB7E-A114-4222-BB14-083B18C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180C57-8509-4D23-B43C-3239CDB0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596BDB-33AD-4945-B82B-32E5F028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BFD73-2ADA-4749-BFC9-7107CD60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AD5B3-6556-43D5-801C-DE936BBE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C82F3-1EAC-4625-9156-9CABE88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96582-6A7F-48D8-BB11-A8E38862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F307-0DBA-45FB-944F-1F07D0F4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04792-7EB3-4145-9859-0E312F16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E3C09-3BA3-46FB-AC6B-9DDAC003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A0CF54-0A0C-481C-BF69-5C111C0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531C7A-55DC-4EB7-9D08-CEA48724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15A46-CD70-4404-916E-69201FF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683C0-C606-400B-BBC1-CB3F5DEF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C7F25B-4ACB-404B-8618-F160A2A3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6F853-4CDB-44EE-9A4C-1FD4D1A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AF1FBD-B373-4AB6-8BAE-94D14132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26B6B-A42C-4524-8E49-75CE010D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F9AA-4319-4D16-AF40-74A8D5C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574BF-57BF-4618-8596-0623A3D2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A80B4-86CE-4B47-A04B-FD320A06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C9F37-BC46-4655-91E0-9E8846C0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1232-6BD7-4D78-A78D-DE494D65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3803D-C826-40FC-B17E-78E5DE73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6E050-22A6-404D-B88B-8D944E52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003E-C9F0-4C03-93C2-AAB9260D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B1C-CE4F-46B9-9F35-152E3B90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B3D8-D97B-4B36-8AEC-1CBC6235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C660-21F0-448B-9A59-83DC120E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160BC-C5CE-4C8B-BA44-0423758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A2BF-2E6F-48AE-B893-81527426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42CF1-2C3E-4D74-B106-F7CB698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E9EA-CC16-4D2C-BF5C-E469CB90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3C98-E3A0-4103-B6B6-6DDCBE9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E224-DF12-4E13-A1AD-041E4592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A3451-7243-406F-AA59-A0422FF3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C7E28-D6F9-46B9-80BB-CED6EE9D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7AF-F771-4782-9A47-88C4C4D3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E54CB-3050-436F-9F6B-093A8B2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77B2-60D9-4F61-9C44-A9554F23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8F027-4B49-4B08-9F75-55985FEB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98791-9C52-4033-AC95-51757F73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A2643-1F4A-436C-89F8-D0D0427E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FBC2-BF05-440E-9A75-E65BCE4B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D9AE-7B6D-45A3-A660-8A496924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DA17-063B-4BED-8A60-BD471D8E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6E196-5A4C-46AA-8FF9-866721E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FA15-91E9-4F6F-A2EE-30CD455F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E7B-50DF-465A-B1EF-23C1A4D6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32248-AE10-4811-9A18-21AA0E7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27416-CEC6-4C0D-B7CD-0A7C017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0FA4-E2C4-42D3-AA62-E39D533E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F290-84A7-481D-8C20-FF85386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31CF-AF6F-4B9C-8592-10773C4A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BD87-CEF8-42A7-A0AF-5452AF96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7AB3-1BF4-4B11-A110-0D4060E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724E6-A9AD-489F-AE7A-F1E992F4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380A-9968-43A2-B859-EECEE97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7293-48C2-495F-A53F-B7EF5399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75B-0DD7-4AEE-AAC4-0953C9A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D545-37AE-4BBF-8E11-0F02A3E7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4F653-EEA6-4544-AE31-AA876031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2937F-3390-4058-B4B5-1A79FE50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A8B2A-1CDB-4688-9801-6E031659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A0FD9-7896-4D57-B98C-0E409DB7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E24E-72CD-4104-BB1A-281A4B69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19EC-91FF-496A-A5AD-E922FC4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96177-C5EB-4D74-A4CB-33C464DD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FB869-9A94-48AE-85EE-F139A768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2F12B-0FFF-4FB2-B419-6D7452F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E09-1EDB-40ED-9B51-3ACBD57C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19810-ADA5-4E03-8E94-C8644FE8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F408-5F95-4AF1-829A-9AACF41F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8109C-331E-4FA9-8CFD-575CF03B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122A8-B7E7-44BA-8A47-7CC996D88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DC0CF-1A83-413B-869F-38BF5814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C83F-B566-4ACA-8D40-C065F12B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57C6-473B-4CC9-98AC-38623108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B97D1-93CA-4082-B3FB-EF3002AF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3B267-6A08-41F2-9D4D-89E8179B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9F87-4955-4405-ABB1-D2E23CD4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7456-5957-4F89-A422-3F46A922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3680-27C6-4616-B901-59DA741E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D649A-5E30-4DE6-8BEA-3C8D2D7F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1E49-6DCB-4242-A0F6-77CDCB6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B248-4BBA-4108-88E8-40A1A749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F69A6-0427-4EAE-B6AD-8B3520DE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ED78-8177-4B5A-9E8F-F121A4A6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0803-A49D-4D9E-AFF8-31CD66AE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DA063-FDA8-4286-91FE-5EAD097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C3E0D-4F53-47F3-9810-59C47ED6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D8F11-5EE2-49B0-907C-19DA8C60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DA0-2F1B-4A7F-BFA4-C4D9B69C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234BD-3BB5-45C1-A8E5-12D2DDDC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60D3-8BD8-4453-9B8A-B47774BB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1F836-A9C6-4C2B-BFE9-79B0D106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65C5-CCC0-4AC3-ADFF-12456A90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39FB-B58E-467D-A949-AD47C0C8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B047D-0D4A-4FCC-B88F-0E3B32E7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0BF50-F167-49A0-9C68-1B353C18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C16B6-6983-4F60-9FA2-3FCA90D0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C07EE-39EE-4D3C-B489-06F38B51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3B820-4AFA-4173-84E8-AC688AA3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F4B9-8571-4F25-91DC-FFD2A284B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DBBE-2846-4A92-AA1D-8E7EDFAC1F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B521-675D-4872-85A7-267036A70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557D-D276-495B-9D05-CE7B0B458D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00CB-04C0-4445-AF08-8E5A1FED8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273-D1B7-428A-AF9A-811ACFC1C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3D61-2A02-4269-9C32-6BB47E2F87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EB05-2916-4A2C-A4C4-9B9217535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0E18-F1AA-489D-B5EB-4F8E4C88B3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A36-1A82-4876-B13D-E134C2541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F585-0235-4AF1-B80C-25B7ABFCB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47F-2BB2-44C5-A639-8A50932459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64A-DDC3-4942-8CF7-0B145934B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BD6-5735-4288-8143-B2586E3B88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42C6-807D-496B-9210-39FDE20C5B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68A-C127-45A4-932F-1DFDBF5AB6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6F15-C80A-4F6D-83F9-C9B555FCD3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293B-A72F-43C4-A27F-A7DC9CBBB4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A0C0-5E43-4A5D-B516-EC8D4579C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2DCB-66A2-4BAD-86D5-6C8709FF8E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7C63-961E-4517-8892-DDE1A1D7C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E95-9899-4316-A4A3-692704A8AD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385-DAF1-4489-8D57-651E601F36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0614-D2AD-492A-A768-170031A8D4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EDC2-3FF8-4109-BE64-E20B115B3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0344-3D92-42EC-A575-2809167E3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140-13E0-47E4-9044-B130E89D3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880-8216-4FFF-813D-EF12B684F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CD83-0099-40B9-B2F5-4D180AFB0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A66D-00B6-40A9-A47D-868ABCFB0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BF7-BB38-4053-B610-BC3790B4A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AEC3-A4BF-44E2-98FB-C8FB7DE647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8B88-15DA-4540-A0DB-FEB0FBDB19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0276-6AC6-47D1-ADFA-D28AB3CAA1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283-8589-4AD3-A1B5-5F47D6367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3ED-6E92-490A-B6F8-C37331D29E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37AD-EC51-4B04-AF57-5B4AA2CC2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2C42-3A2B-49BF-965E-AED49D1890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490B-9E08-492A-9A4F-D2AA0D278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5ED5-8D6B-4AAB-8D7B-D2FC96C8A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2840" y="2519280"/>
            <a:ext cx="9056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04760" y="2162160"/>
            <a:ext cx="8934480" cy="25336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755640" y="26179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755640" y="3486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684360" y="3889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68436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8" name="图片 1" descr=""/>
          <p:cNvPicPr/>
          <p:nvPr/>
        </p:nvPicPr>
        <p:blipFill>
          <a:blip r:embed="rId1"/>
          <a:stretch/>
        </p:blipFill>
        <p:spPr>
          <a:xfrm>
            <a:off x="133200" y="1152360"/>
            <a:ext cx="8877600" cy="45532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2735280" cy="320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3"/>
          <a:stretch/>
        </p:blipFill>
        <p:spPr>
          <a:xfrm>
            <a:off x="900000" y="2838600"/>
            <a:ext cx="2735280" cy="320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4"/>
          <a:stretch/>
        </p:blipFill>
        <p:spPr>
          <a:xfrm>
            <a:off x="826920" y="3645000"/>
            <a:ext cx="2735280" cy="320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5"/>
          <a:stretch/>
        </p:blipFill>
        <p:spPr>
          <a:xfrm>
            <a:off x="900000" y="4479840"/>
            <a:ext cx="3672000" cy="3207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6"/>
          <a:stretch/>
        </p:blipFill>
        <p:spPr>
          <a:xfrm>
            <a:off x="971640" y="5315040"/>
            <a:ext cx="367164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6" name="图片 2" descr=""/>
          <p:cNvPicPr/>
          <p:nvPr/>
        </p:nvPicPr>
        <p:blipFill>
          <a:blip r:embed="rId1"/>
          <a:stretch/>
        </p:blipFill>
        <p:spPr>
          <a:xfrm>
            <a:off x="61920" y="947880"/>
            <a:ext cx="901872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1442880" y="2147760"/>
            <a:ext cx="6258240" cy="25624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176364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1835280" y="3011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176364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1835280" y="383220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362400" y="1087560"/>
            <a:ext cx="2419200" cy="51408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247680" y="2095560"/>
            <a:ext cx="8648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284328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795672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450072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6227640" y="4292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1042920" y="430704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633680" y="876240"/>
            <a:ext cx="5876640" cy="56865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2268360" y="134136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2268360" y="2637000"/>
            <a:ext cx="360720" cy="320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2268360" y="4005360"/>
            <a:ext cx="360720" cy="320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2268360" y="5300640"/>
            <a:ext cx="36072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2509920" y="2871720"/>
            <a:ext cx="4124160" cy="1114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2771640" y="2852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8991360" cy="2438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388360" y="2651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8459640" y="306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844560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838836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8459640" y="42642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581040" y="806400"/>
            <a:ext cx="7981920" cy="315288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" descr=""/>
          <p:cNvPicPr/>
          <p:nvPr/>
        </p:nvPicPr>
        <p:blipFill>
          <a:blip r:embed="rId2"/>
          <a:stretch/>
        </p:blipFill>
        <p:spPr>
          <a:xfrm>
            <a:off x="514440" y="4118040"/>
            <a:ext cx="8115120" cy="23335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1187280" y="1930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1187280" y="2363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1187280" y="2736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1187280" y="31561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124452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8"/>
          <a:stretch/>
        </p:blipFill>
        <p:spPr>
          <a:xfrm>
            <a:off x="1187280" y="44798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9"/>
          <a:stretch/>
        </p:blipFill>
        <p:spPr>
          <a:xfrm>
            <a:off x="1187280" y="4869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10"/>
          <a:stretch/>
        </p:blipFill>
        <p:spPr>
          <a:xfrm>
            <a:off x="1187280" y="531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11"/>
          <a:stretch/>
        </p:blipFill>
        <p:spPr>
          <a:xfrm>
            <a:off x="1187280" y="57340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12"/>
          <a:stretch/>
        </p:blipFill>
        <p:spPr>
          <a:xfrm>
            <a:off x="1187280" y="6107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291960" y="1309680"/>
            <a:ext cx="8561520" cy="172404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2" descr=""/>
          <p:cNvPicPr/>
          <p:nvPr/>
        </p:nvPicPr>
        <p:blipFill>
          <a:blip r:embed="rId2"/>
          <a:stretch/>
        </p:blipFill>
        <p:spPr>
          <a:xfrm>
            <a:off x="762120" y="3471840"/>
            <a:ext cx="7619760" cy="2817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971640" y="1700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1042920" y="357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1042920" y="5013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642960" y="2014560"/>
            <a:ext cx="7856640" cy="28288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90000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219240" y="919080"/>
            <a:ext cx="8705520" cy="50198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900000" y="223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9288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90000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6"/>
          <a:stretch/>
        </p:blipFill>
        <p:spPr>
          <a:xfrm>
            <a:off x="900000" y="5157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33:3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